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C314-E2C6-4273-84CA-08ECB548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21D7-1BA9-42AF-B62A-F2436E36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8B3B-3EEC-4D00-9B26-64931875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2C97-CFCC-4951-B04F-767EA7EE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3D2A-FBA2-4377-A638-068D97F6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321C-C877-4E57-950B-BF510565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FD69-6991-4153-8A40-F08E523A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E285-67CB-4153-A8CF-730CBDF2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7C99-28D9-4540-9CB9-117C9A1D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FF65-94F8-4A1B-9949-DD2C722E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342E-3925-4E26-BC10-EAB84F4C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2186-D8DB-4F9E-8A3F-17F1DA69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8BA8-DD15-4A84-960F-A30397A0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C29A-7EEC-4A0F-808D-28A3E35A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003B-5AA8-479E-A857-A32481F7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7014-20B8-4B6C-9E16-5B48F4A0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EC07-3305-4AD1-9AED-6071DDE6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7E98-FDB3-49D2-ABA2-B4A0428D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F483-912B-483B-99F7-784B223F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E3CA-F52E-4FEC-A5EC-45241B85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53A4-09E1-4E6E-B6D2-BC8A122E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61BA-775B-4D57-BF48-14CF3F59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A81A-522C-4536-8E73-1FAA055D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2048-2C79-4D0E-A3E9-E24FDA5C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72A4-C8C0-4B62-A1BB-196A1FC325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54E6-0476-4A8C-A832-698F89E82B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330033"/>
                </a:solidFill>
                <a:latin typeface="Times New Roman"/>
              </a:rPr>
              <a:t>ALTE ROMANE  REALISTE INTERBELICE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68240" y="4037040"/>
            <a:ext cx="604692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9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9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330033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330033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330033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330033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57200" y="2857680"/>
            <a:ext cx="64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LTE ROMANE  REALISTE INTERBELIC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70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330033"/>
                </a:solidFill>
                <a:latin typeface="Times New Roman"/>
              </a:rPr>
              <a:t>Examenul de bacalaureat 201</a:t>
            </a:r>
            <a:r>
              <a:rPr b="0" lang="en-US" sz="900" spc="-1" strike="noStrike">
                <a:solidFill>
                  <a:srgbClr val="330033"/>
                </a:solidFill>
                <a:latin typeface="Times New Roman"/>
              </a:rPr>
              <a:t>2</a:t>
            </a:r>
            <a:br>
              <a:rPr sz="900"/>
            </a:br>
            <a:r>
              <a:rPr b="0" lang="ro-RO" sz="900" spc="-1" strike="noStrike">
                <a:solidFill>
                  <a:srgbClr val="330033"/>
                </a:solidFill>
                <a:latin typeface="Times New Roman"/>
              </a:rPr>
              <a:t>Proba de evaluare a competenţelor digitale</a:t>
            </a:r>
            <a:r>
              <a:rPr b="0" lang="en-US" sz="900" spc="-1" strike="noStrike">
                <a:solidFill>
                  <a:srgbClr val="330033"/>
                </a:solidFill>
                <a:latin typeface="Times New Roman"/>
              </a:rPr>
              <a:t> – document de lucru</a:t>
            </a:r>
            <a:endParaRPr b="0" lang="en-US" sz="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1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cccc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ws24</cp:lastModifiedBy>
  <dcterms:modified xsi:type="dcterms:W3CDTF">2012-06-18T11:04:35Z</dcterms:modified>
  <cp:revision>27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